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DEF-6F63-4F8A-A25F-85A0F55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01F-8ADD-47C9-9060-EBF38CA9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C99-E59C-4DBC-A50C-D35F2A33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6A1-7C42-42DD-AB99-5F3223C5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9E9-6110-49F0-BEC2-64009660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8AA-2216-4F72-AEA6-4A4E238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CB2-B875-4FCE-94C7-D6B0116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7FB-510C-44BC-A77E-1A59925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487-B0AE-456C-BE9B-4BF7190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AF2-5200-4699-B212-2AB1B26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F01-AE89-4E83-9FCA-4CC6CC9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0C7-3CE4-4DCC-BC87-F31D771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1869-79FD-4454-8E04-91D0B1AB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90720"/>
            <a:ext cx="83059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105520"/>
            <a:ext cx="38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ulo A 22/2/11 p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724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Christiansen"/>
          <p:cNvPicPr/>
          <p:nvPr/>
        </p:nvPicPr>
        <p:blipFill>
          <a:blip r:embed="rId1"/>
          <a:srcRect l="73869" t="-4324" r="-7297" b="43480"/>
          <a:stretch/>
        </p:blipFill>
        <p:spPr>
          <a:xfrm>
            <a:off x="685800" y="213372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ristiansen"/>
          <p:cNvPicPr/>
          <p:nvPr/>
        </p:nvPicPr>
        <p:blipFill>
          <a:blip r:embed="rId2"/>
          <a:srcRect l="0" t="-4324" r="63780" b="0"/>
          <a:stretch/>
        </p:blipFill>
        <p:spPr>
          <a:xfrm>
            <a:off x="3962520" y="167652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7621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ristain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Monday Feb 2011 http://web.mit.edu/invent/iow/christa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8b04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tin Lego means I study or I put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ger of blocks were made 1967 they were called Lego Du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egos stared out like wood then pla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y made changes like but batteries in them. They but the batteries on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has sold Legos in 130 countries with sales of more than 1.5 million doll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cc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Ole Kirk Christa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1 in Firskov Denmark, small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ansen had a son named Godfred Kirk Chrisata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his own business in Birland in 19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8 Christanses died and his son took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on died and Ole grandson later took ov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15Z</dcterms:created>
  <dc:creator>install</dc:creator>
  <dc:description/>
  <dc:language>en-US</dc:language>
  <cp:lastModifiedBy>install</cp:lastModifiedBy>
  <dcterms:modified xsi:type="dcterms:W3CDTF">2011-03-11T18:31:28Z</dcterms:modified>
  <cp:revision>11</cp:revision>
  <dc:subject/>
  <dc:title>Slide 1</dc:title>
</cp:coreProperties>
</file>